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7C96-2392-49FA-9E11-09C660795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1DB5-023A-4AC1-831C-8BF44C130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2023-9A59-413F-B391-7249BCBBE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500C-9262-434A-9DF5-B5CA16159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D3849-5524-436F-993B-5C89049E7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8BB1-C8D0-4691-8BC8-99C058B90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CF72-05D2-4FAA-8663-F6956F9F8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3188-ACED-40CE-97D3-29F7B498A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4772-FD4E-485E-B0C8-D14DE1DEBC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AB89-CD4D-4BE7-B06B-389EB3A53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BDD2-76CC-4AAA-A5CD-36D5A2DA0C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C013-CD28-4A12-8ADF-EF2B1A262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87F6F028-4480-40B6-9B24-130C7B93561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6T06:43:10Z</dcterms:modified>
  <cp:revision>81</cp:revision>
  <dc:subject/>
  <dc:title>No Slide Title</dc:title>
</cp:coreProperties>
</file>